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137E-55A8-4B2C-AA0F-CFF054DC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8CD1-FB93-44A9-B38A-6B2E1BC8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3640-278A-48B2-AA82-489D97D2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EBC1-FEF2-400D-99CD-AA262766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3E8F-31D0-43C2-8F1A-C6B80198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1B9F-4BD8-40E8-9D7A-7CC2DD86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96AD-119C-41DE-8F7A-E1FE5F9D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8CF5-CB57-4985-8462-C473FA50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65DA-C54D-4E75-AB3D-8C3AD622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F3F-72D2-432C-9A22-733CB821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6524-ED32-4D14-B6C4-0226BC0B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502-2886-4466-B603-CA5B0381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1670-0271-4DBA-91AF-DBF0FCDEED2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6.xml"/><Relationship Id="rId10" Type="http://schemas.openxmlformats.org/officeDocument/2006/relationships/image" Target="../media/image4.png"/><Relationship Id="rId11" Type="http://schemas.openxmlformats.org/officeDocument/2006/relationships/slide" Target="slide8.xml"/><Relationship Id="rId12" Type="http://schemas.openxmlformats.org/officeDocument/2006/relationships/image" Target="../media/image5.jpeg"/><Relationship Id="rId13" Type="http://schemas.openxmlformats.org/officeDocument/2006/relationships/slide" Target="slide7.xml"/><Relationship Id="rId14" Type="http://schemas.openxmlformats.org/officeDocument/2006/relationships/image" Target="../media/image6.jpeg"/><Relationship Id="rId15" Type="http://schemas.openxmlformats.org/officeDocument/2006/relationships/slide" Target="slide4.xml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hyperlink" Target="http://www.xtec.es/~ealtimir/sjordica.htm" TargetMode="External"/><Relationship Id="rId9" Type="http://schemas.openxmlformats.org/officeDocument/2006/relationships/hyperlink" Target="http://www.terra.es/personal/angerod/jordi.htm" TargetMode="External"/><Relationship Id="rId10" Type="http://schemas.openxmlformats.org/officeDocument/2006/relationships/hyperlink" Target="http://www.seccat.com/xarsec_projectes/stjordi/stjordi99/llegenda/" TargetMode="External"/><Relationship Id="rId11" Type="http://schemas.openxmlformats.org/officeDocument/2006/relationships/hyperlink" Target="http://ca.wikipedia.org/wiki/Sant_Jordi" TargetMode="External"/><Relationship Id="rId12" Type="http://schemas.openxmlformats.org/officeDocument/2006/relationships/hyperlink" Target="http://www.iecat.net/pperiodiques/ShowArticleFile.asp?FileID=%7B6A046FBA-A795-4561-BCC8-E6DF029D2018%7D&amp;FileType=application/pdf" TargetMode="External"/><Relationship Id="rId13" Type="http://schemas.openxmlformats.org/officeDocument/2006/relationships/hyperlink" Target="http://www.relatsencatala.com/rec/Controller?rp_action=view_relat&amp;rp_relat_id=117053" TargetMode="External"/><Relationship Id="rId14" Type="http://schemas.openxmlformats.org/officeDocument/2006/relationships/hyperlink" Target="http://leodegundia.blogspot.com/2005/08/caballeros-medievales_17.html" TargetMode="External"/><Relationship Id="rId15" Type="http://schemas.openxmlformats.org/officeDocument/2006/relationships/hyperlink" Target="http://www.xtec.es/centres/e3004232/llegenda.pdf" TargetMode="External"/><Relationship Id="rId16" Type="http://schemas.openxmlformats.org/officeDocument/2006/relationships/hyperlink" Target="http://www.relatsencatala.com/rec/Controller?rp_action=view_relat&amp;rp_relat_id=82533" TargetMode="External"/><Relationship Id="rId17" Type="http://schemas.openxmlformats.org/officeDocument/2006/relationships/hyperlink" Target="http://www.sant-celoni.cat/cultura/soler_de_vilardell.htm" TargetMode="External"/><Relationship Id="rId18" Type="http://schemas.openxmlformats.org/officeDocument/2006/relationships/slide" Target="slide3.xml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hyperlink" Target="http://www.xtec.cat/recursos/cultura/contes/arreu/quatre.htm" TargetMode="External"/><Relationship Id="rId9" Type="http://schemas.openxmlformats.org/officeDocument/2006/relationships/hyperlink" Target="http://www.lamalla.net/petita_malla/hem_escollit/article?ids=130423" TargetMode="External"/><Relationship Id="rId10" Type="http://schemas.openxmlformats.org/officeDocument/2006/relationships/hyperlink" Target="http://www.xtec.es/trobada/sjordi98/llegenda/teresa.htm" TargetMode="External"/><Relationship Id="rId11" Type="http://schemas.openxmlformats.org/officeDocument/2006/relationships/hyperlink" Target="http://www.ladymorrygan.com/cl_Vibria.htm" TargetMode="External"/><Relationship Id="rId12" Type="http://schemas.openxmlformats.org/officeDocument/2006/relationships/hyperlink" Target="http://www.festes.org/directori.php?id=195" TargetMode="External"/><Relationship Id="rId13" Type="http://schemas.openxmlformats.org/officeDocument/2006/relationships/hyperlink" Target="http://www.festes.org/entremesos/bestiari/" TargetMode="External"/><Relationship Id="rId14" Type="http://schemas.openxmlformats.org/officeDocument/2006/relationships/hyperlink" Target="http://www.bibgirona.net/salt/dracs/" TargetMode="External"/><Relationship Id="rId15" Type="http://schemas.openxmlformats.org/officeDocument/2006/relationships/hyperlink" Target="http://femxarxa.rubidigital.cat/gallery/view/id/240" TargetMode="External"/><Relationship Id="rId16" Type="http://schemas.openxmlformats.org/officeDocument/2006/relationships/hyperlink" Target="http://www.festes.org/directori.php?id=195" TargetMode="External"/><Relationship Id="rId17" Type="http://schemas.openxmlformats.org/officeDocument/2006/relationships/hyperlink" Target="http://portalx.iespana.es/dragonesx/xindex.html" TargetMode="External"/><Relationship Id="rId18" Type="http://schemas.openxmlformats.org/officeDocument/2006/relationships/slide" Target="slide3.xml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hyperlink" Target="http://www.xtec.es/~averges3/primer/plantes.htm" TargetMode="External"/><Relationship Id="rId9" Type="http://schemas.openxmlformats.org/officeDocument/2006/relationships/hyperlink" Target="http://www.xtec.es/col-anunciata-cerdanyola/plantes/index%20flors%20blanques2.htm" TargetMode="External"/><Relationship Id="rId10" Type="http://schemas.openxmlformats.org/officeDocument/2006/relationships/hyperlink" Target="http://www.xtec.es/~enieto2/07mar/flors/flors.htm" TargetMode="Externa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image" Target="../media/image6.jpeg"/><Relationship Id="rId8" Type="http://schemas.openxmlformats.org/officeDocument/2006/relationships/hyperlink" Target="http://www.xtec.es/aulanet/khaima/" TargetMode="External"/><Relationship Id="rId9" Type="http://schemas.openxmlformats.org/officeDocument/2006/relationships/hyperlink" Target="http://www.educared.org.ar/imaginaria/biblioteca/pdf/ArchancoElingredientesecreto.pdf" TargetMode="External"/><Relationship Id="rId10" Type="http://schemas.openxmlformats.org/officeDocument/2006/relationships/hyperlink" Target="http://www.educared.org.ar/imaginaria/biblioteca/pdf/DavilaCuentocondragonesyprincesas.pdf" TargetMode="External"/><Relationship Id="rId11" Type="http://schemas.openxmlformats.org/officeDocument/2006/relationships/hyperlink" Target="http://www.educared.org.ar/imaginaria/biblioteca/pdf/ArchancoFelipalaprincesa.pdf" TargetMode="External"/><Relationship Id="rId12" Type="http://schemas.openxmlformats.org/officeDocument/2006/relationships/hyperlink" Target="http://www.xtec.es/~acarre/proposta/amor/bany.htm" TargetMode="External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image" Target="../media/image5.jpeg"/><Relationship Id="rId8" Type="http://schemas.openxmlformats.org/officeDocument/2006/relationships/hyperlink" Target="http://www.cercat.com/cinema/santllegenda.htm" TargetMode="External"/><Relationship Id="rId9" Type="http://schemas.openxmlformats.org/officeDocument/2006/relationships/hyperlink" Target="http://www.xtec.es/~mdomingo/stjordi/" TargetMode="External"/><Relationship Id="rId10" Type="http://schemas.openxmlformats.org/officeDocument/2006/relationships/hyperlink" Target="http://www.terra.es/personal/angerod/jordi.htm" TargetMode="External"/><Relationship Id="rId11" Type="http://schemas.openxmlformats.org/officeDocument/2006/relationships/hyperlink" Target="http://www.terra.es/personal/angerod/jorge2.htm" TargetMode="External"/><Relationship Id="rId12" Type="http://schemas.openxmlformats.org/officeDocument/2006/relationships/hyperlink" Target="http://www.totcontes.com/view.php?p=C:santjordi" TargetMode="External"/><Relationship Id="rId13" Type="http://schemas.openxmlformats.org/officeDocument/2006/relationships/hyperlink" Target="http://www.eurotales.eril.net/jordiec.htm" TargetMode="External"/><Relationship Id="rId14" Type="http://schemas.openxmlformats.org/officeDocument/2006/relationships/hyperlink" Target="http://www.setmanamedieval.org/llegenda.php" TargetMode="External"/><Relationship Id="rId15" Type="http://schemas.openxmlformats.org/officeDocument/2006/relationships/hyperlink" Target="http://www.edualter.org/material/stjordi.htm" TargetMode="External"/><Relationship Id="rId16" Type="http://schemas.openxmlformats.org/officeDocument/2006/relationships/hyperlink" Target="http://www.pangea.org/%7Ecarlesc/contes/catperua.htm" TargetMode="External"/><Relationship Id="rId17" Type="http://schemas.openxmlformats.org/officeDocument/2006/relationships/slide" Target="slide3.xml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2840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3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sp>
        <p:nvSpPr>
          <p:cNvPr id="43" name="4 CuadroTexto"/>
          <p:cNvSpPr/>
          <p:nvPr/>
        </p:nvSpPr>
        <p:spPr>
          <a:xfrm>
            <a:off x="3143160" y="1928880"/>
            <a:ext cx="5429520" cy="44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mb aquesta webquest ens volem acostar a la llegenda de Sant Jord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Ús proposem analitzar-ne els personatges més importants i buscar un paral·lelisme amb personatges similars d’altres cultures..., perquè de llegendes, dracs, princeses, valents cavallers i flors màgiques en podem trobar arreu del m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Seguiu els enllaços que us proposem, feu les activitats i descobrireu un Sant Jordi Intercul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3 Rectángulo" descr=""/>
          <p:cNvPicPr/>
          <p:nvPr/>
        </p:nvPicPr>
        <p:blipFill>
          <a:blip r:embed="rId1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sp>
        <p:nvSpPr>
          <p:cNvPr id="91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5 CuadroTexto"/>
          <p:cNvSpPr/>
          <p:nvPr/>
        </p:nvSpPr>
        <p:spPr>
          <a:xfrm>
            <a:off x="3071880" y="2143080"/>
            <a:ext cx="514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rèd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Gràcies a l’equip LIC de l’Alt i Baix Empordà ja que la seva Webquest ens ha servit d’orientació i desprès d’agafar-la com model, l’hem adaptat a les nostres necessit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 u="sng">
                <a:solidFill>
                  <a:srgbClr val="000000"/>
                </a:solidFill>
                <a:uFillTx/>
                <a:latin typeface="Calibri"/>
              </a:rPr>
              <a:t>http://www.xtec.es/~msilvest/wqsj/index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CuadroTexto"/>
          <p:cNvSpPr/>
          <p:nvPr/>
        </p:nvSpPr>
        <p:spPr>
          <a:xfrm>
            <a:off x="2714760" y="1857240"/>
            <a:ext cx="6143400" cy="48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as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Agrupeu-vos per parelles i cada grup serà un d’aquests personatg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inc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av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dr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r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eu una carpeta amb el Word, on posareu el títol del vostre grup i on guardareu tot el tre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oseu-li el títol del vostre  grup i guardeu les fr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) Trieu d’entre totes les frases les adequades al vostre personat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a por – Ens recorda l’origen, color de la sang – La bellesa – És bonica però té punxes – És gran – És bo – És difícil de matar... – És un obsequi, un regal, una actitud de cortesia... – És fort i valent – Té poders – És fidel... – Va a favor del dèbil... – És feble – És un monstre – S’ha de protegir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Aneu a l’apartat procés d’aquesta webquest i treballeu a fons el vostre personatge: cerqueu imatges per il·lustrar les seves qualitats, guardeu les imatges dins de cada carpeta, feu tot el que correspongui al vostre personatge i desprès aquest arxiu l’heu d’enviar al vostre correu electrònic per poder-lo imprimir a ca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5)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sprès de treballar cada personatge heu d’anar a l’apartat llegendes i escriure la vostra llegenda intercultural., que també haureu de posar a l’arxiu creat  per  imprimir-lo a ca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Amb les imatges que heu buscat, la llegenda de Sant Jordi, les frases que heu escollit i la llegenda intercultural que heu escrit fareu un mural el mateix dia de Sant Jord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7) Cada grup haurà de muntar una presentació amb Power Point sobre la llegenda de Sant Jord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10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4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3929040" y="3071880"/>
          <a:ext cx="5524560" cy="3786120"/>
        </p:xfrm>
        <a:graphic>
          <a:graphicData uri="http://schemas.openxmlformats.org/drawingml/2006/table">
            <a:tbl>
              <a:tblPr/>
              <a:tblGrid>
                <a:gridCol w="647640"/>
                <a:gridCol w="1219320"/>
                <a:gridCol w="1219320"/>
                <a:gridCol w="1218960"/>
                <a:gridCol w="1219320"/>
              </a:tblGrid>
              <a:tr h="18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000240" y="2857680"/>
          <a:ext cx="5857920" cy="3714480"/>
        </p:xfrm>
        <a:graphic>
          <a:graphicData uri="http://schemas.openxmlformats.org/drawingml/2006/table">
            <a:tbl>
              <a:tblPr/>
              <a:tblGrid>
                <a:gridCol w="1621080"/>
                <a:gridCol w="1461960"/>
                <a:gridCol w="1546200"/>
                <a:gridCol w="1228680"/>
              </a:tblGrid>
              <a:tr h="182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 cava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 dr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f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princ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legen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1" name="Imagen 14" descr="drac amb pancart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86200" y="2714760"/>
            <a:ext cx="1285920" cy="1857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ibuix rosa, imatge sense enllaços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286680" y="2928960"/>
            <a:ext cx="1076040" cy="1495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http://www.costumari.com/wiki/images/5/5c/Santjordi.jp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286080" y="5214960"/>
            <a:ext cx="928800" cy="130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princesa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643880" y="2714760"/>
            <a:ext cx="1071360" cy="1857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1caballero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429000" y="2857680"/>
            <a:ext cx="857160" cy="1714320"/>
          </a:xfrm>
          <a:prstGeom prst="rect">
            <a:avLst/>
          </a:prstGeom>
          <a:ln w="0">
            <a:noFill/>
          </a:ln>
        </p:spPr>
      </p:pic>
      <p:sp>
        <p:nvSpPr>
          <p:cNvPr id="56" name="11 CuadroTexto"/>
          <p:cNvSpPr/>
          <p:nvPr/>
        </p:nvSpPr>
        <p:spPr>
          <a:xfrm>
            <a:off x="3429000" y="17146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Proc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3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1caballero"/>
          <p:cNvPicPr/>
          <p:nvPr/>
        </p:nvPicPr>
        <p:blipFill>
          <a:blip r:embed="rId7"/>
          <a:stretch/>
        </p:blipFill>
        <p:spPr>
          <a:xfrm>
            <a:off x="428760" y="285840"/>
            <a:ext cx="928440" cy="1857240"/>
          </a:xfrm>
          <a:prstGeom prst="rect">
            <a:avLst/>
          </a:prstGeom>
          <a:ln w="0">
            <a:noFill/>
          </a:ln>
        </p:spPr>
      </p:pic>
      <p:sp>
        <p:nvSpPr>
          <p:cNvPr id="60" name="7 CuadroTexto"/>
          <p:cNvSpPr/>
          <p:nvPr/>
        </p:nvSpPr>
        <p:spPr>
          <a:xfrm>
            <a:off x="2643120" y="1571760"/>
            <a:ext cx="6215040" cy="283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lleg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Qui era Sat Jord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ant Jordi. Patró de Catalu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Adaptacions de la llegenda fetes per esc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Sant Jordi a la wikip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Histories de cavaller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Sis llegendes inèdites de la historiografia catalana mediev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Relat: La victòria dels venç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El rincón de Leodegundia: Caballeros mediev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Llegenda Tortos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El drac de Bestrac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La llegenda de Soler de Vilard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8 CuadroTexto"/>
          <p:cNvSpPr/>
          <p:nvPr/>
        </p:nvSpPr>
        <p:spPr>
          <a:xfrm>
            <a:off x="2786040" y="4929120"/>
            <a:ext cx="53578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escriure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eu una descripció del vostre cavaller. Com es diu el seu cavall?. Quines qualitats té?. Quines gestes ha d’emprendre?. Com és?. Està enamorat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9 Flecha derecha">
            <a:hlinkClick r:id="rId18" action="ppaction://hlinksldjump"/>
          </p:cNvPr>
          <p:cNvSpPr/>
          <p:nvPr/>
        </p:nvSpPr>
        <p:spPr>
          <a:xfrm>
            <a:off x="7286760" y="6215040"/>
            <a:ext cx="128592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2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pic>
        <p:nvPicPr>
          <p:cNvPr id="65" name="Imagen 14" descr="drac amb pancarta"/>
          <p:cNvPicPr/>
          <p:nvPr/>
        </p:nvPicPr>
        <p:blipFill>
          <a:blip r:embed="rId7"/>
          <a:stretch/>
        </p:blipFill>
        <p:spPr>
          <a:xfrm>
            <a:off x="285840" y="285840"/>
            <a:ext cx="1285920" cy="185724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2714760" y="1857240"/>
            <a:ext cx="6072120" cy="19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llegir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Els quatre dracs. Conte Xinè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El món dels dra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13 llegendes de dr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Llegenda de La Vib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racs catalans famos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Bestiari festi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Bestiari catal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2714760" y="4000680"/>
            <a:ext cx="6072120" cy="19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escriu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Busqueu imatges de drac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Dibuixos de dr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Galeria de bestiari catal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Més imatges de besti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nl-NL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Dracs de tot el m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.. a partir de les imatges creeu el vostre propi drac i feu-ne una descripció. Escriviu com és el vostre drac. D’on és?. On viu?.  Què fa?. Quins són els seus trets principals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6 Flecha derecha">
            <a:hlinkClick r:id="rId18" action="ppaction://hlinksldjump"/>
          </p:cNvPr>
          <p:cNvSpPr/>
          <p:nvPr/>
        </p:nvSpPr>
        <p:spPr>
          <a:xfrm>
            <a:off x="7286760" y="6215040"/>
            <a:ext cx="128592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4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dibuix rosa, imatge sense enllaços"/>
          <p:cNvPicPr/>
          <p:nvPr/>
        </p:nvPicPr>
        <p:blipFill>
          <a:blip r:embed="rId7"/>
          <a:stretch/>
        </p:blipFill>
        <p:spPr>
          <a:xfrm>
            <a:off x="285840" y="357120"/>
            <a:ext cx="1076400" cy="1495440"/>
          </a:xfrm>
          <a:prstGeom prst="rect">
            <a:avLst/>
          </a:prstGeom>
          <a:ln w="0">
            <a:noFill/>
          </a:ln>
        </p:spPr>
      </p:pic>
      <p:sp>
        <p:nvSpPr>
          <p:cNvPr id="72" name="6 CuadroTexto"/>
          <p:cNvSpPr/>
          <p:nvPr/>
        </p:nvSpPr>
        <p:spPr>
          <a:xfrm>
            <a:off x="3214800" y="2428920"/>
            <a:ext cx="507204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llegi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Les plantes màgiques de les ronda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Flors de Catalu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El llenguatge de les f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7 CuadroTexto"/>
          <p:cNvSpPr/>
          <p:nvPr/>
        </p:nvSpPr>
        <p:spPr>
          <a:xfrm>
            <a:off x="3214800" y="3929040"/>
            <a:ext cx="507204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escri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. Ara que sabeu moltes coses sobre les flors, escolliu una flor per la vostra llegenda i descriviu-la. Quina flor heu triat?. Com és?. Quines qualitats té?. És màgica?. És diferent de les altres?. Per què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. Escriu un missatge secret utilitzant el llenguatge de les fl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8 Flecha derecha">
            <a:hlinkClick r:id="rId11" action="ppaction://hlinksldjump"/>
          </p:cNvPr>
          <p:cNvSpPr/>
          <p:nvPr/>
        </p:nvSpPr>
        <p:spPr>
          <a:xfrm>
            <a:off x="7286760" y="6215040"/>
            <a:ext cx="128592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4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princesa"/>
          <p:cNvPicPr/>
          <p:nvPr/>
        </p:nvPicPr>
        <p:blipFill>
          <a:blip r:embed="rId7"/>
          <a:stretch/>
        </p:blipFill>
        <p:spPr>
          <a:xfrm>
            <a:off x="285840" y="285840"/>
            <a:ext cx="1071360" cy="1857240"/>
          </a:xfrm>
          <a:prstGeom prst="rect">
            <a:avLst/>
          </a:prstGeom>
          <a:ln w="0">
            <a:noFill/>
          </a:ln>
        </p:spPr>
      </p:pic>
      <p:sp>
        <p:nvSpPr>
          <p:cNvPr id="78" name="6 CuadroTexto"/>
          <p:cNvSpPr/>
          <p:nvPr/>
        </p:nvSpPr>
        <p:spPr>
          <a:xfrm>
            <a:off x="2714760" y="2500200"/>
            <a:ext cx="600048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llegi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La Princesa Sherezade. "La Khaima de les balances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El ingrediente secr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Cuento con dragones y princes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Felipa la princ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Tirant lo Blanc. "El bany de la princesa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7 CuadroTexto"/>
          <p:cNvSpPr/>
          <p:nvPr/>
        </p:nvSpPr>
        <p:spPr>
          <a:xfrm>
            <a:off x="2714760" y="4500720"/>
            <a:ext cx="600048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escri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egur que la vostra princesa és també molt bella, però quines són totes les seves qualitats?. On viu?. Com és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eu una descripció de la vostra princ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8 Flecha derecha">
            <a:hlinkClick r:id="rId13" action="ppaction://hlinksldjump"/>
          </p:cNvPr>
          <p:cNvSpPr/>
          <p:nvPr/>
        </p:nvSpPr>
        <p:spPr>
          <a:xfrm>
            <a:off x="7286760" y="6215040"/>
            <a:ext cx="128592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4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http://www.costumari.com/wiki/images/5/5c/Santjordi.jpg"/>
          <p:cNvPicPr/>
          <p:nvPr/>
        </p:nvPicPr>
        <p:blipFill>
          <a:blip r:embed="rId7"/>
          <a:stretch/>
        </p:blipFill>
        <p:spPr>
          <a:xfrm>
            <a:off x="285840" y="500040"/>
            <a:ext cx="1114200" cy="1562040"/>
          </a:xfrm>
          <a:prstGeom prst="rect">
            <a:avLst/>
          </a:prstGeom>
          <a:ln w="0">
            <a:noFill/>
          </a:ln>
        </p:spPr>
      </p:pic>
      <p:sp>
        <p:nvSpPr>
          <p:cNvPr id="84" name="6 CuadroTexto"/>
          <p:cNvSpPr/>
          <p:nvPr/>
        </p:nvSpPr>
        <p:spPr>
          <a:xfrm>
            <a:off x="2928960" y="1857240"/>
            <a:ext cx="578628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llegi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Llegeda catalana del drac i la princ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legendes de Sant Jord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xtec.es/%7Emdomingo/stjord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terra.es/personal/angerod/jord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terra.es/personal/angerod/jorge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www.totcontes.com/view.php?p=C:santjor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eurotales.eril.net/jordiec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setmanamedieval.org/llegenda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legendes intercultur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Llegenda de Serid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La llegenda de Huascaran.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CuadroTexto"/>
          <p:cNvSpPr/>
          <p:nvPr/>
        </p:nvSpPr>
        <p:spPr>
          <a:xfrm>
            <a:off x="2928960" y="4929120"/>
            <a:ext cx="57862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escri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ja esteu a punt d’escriure una autèntica llegenda intercultural, poseu també imat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8 Flecha derecha">
            <a:hlinkClick r:id="rId17" action="ppaction://hlinksldjump"/>
          </p:cNvPr>
          <p:cNvSpPr/>
          <p:nvPr/>
        </p:nvSpPr>
        <p:spPr>
          <a:xfrm>
            <a:off x="7286760" y="6215040"/>
            <a:ext cx="128592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3 Rectángulo" descr=""/>
          <p:cNvPicPr/>
          <p:nvPr/>
        </p:nvPicPr>
        <p:blipFill>
          <a:blip r:embed="rId1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sp>
        <p:nvSpPr>
          <p:cNvPr id="88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CuadroTexto"/>
          <p:cNvSpPr/>
          <p:nvPr/>
        </p:nvSpPr>
        <p:spPr>
          <a:xfrm>
            <a:off x="2786040" y="1785960"/>
            <a:ext cx="6033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valuaci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Per la valoració del vostre treball s'observaran els següents aspec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Participació dels membres del grup a la recerca d’informació, elaboració del treball i presentaci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Ús de la informació preci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Correcció ortogràfica i sintàc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Finalització de les tas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Disseny del docu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Utilització de les eines informàtiqu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Presentació del mural amb retalls de les vostres recer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Descripció dels personat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Imatges de dracs, princeses, cavallers i flors màgi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Llegenda intercult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Presentació amb Power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7:22:50Z</dcterms:created>
  <dc:creator>Pilar</dc:creator>
  <dc:description/>
  <dc:language>en-US</dc:language>
  <cp:lastModifiedBy>Pilar</cp:lastModifiedBy>
  <dcterms:modified xsi:type="dcterms:W3CDTF">2008-04-06T08:04:57Z</dcterms:modified>
  <cp:revision>58</cp:revision>
  <dc:subject/>
  <dc:title>Diapositiva 1</dc:title>
</cp:coreProperties>
</file>