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A3672-3CD6-4665-A0A7-7764B3894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9D2C-8BCC-4270-BA4C-4C57F45F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10BDC-8D21-492C-A1A8-1B08AA09D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1409-D08C-4046-AE03-2636EC3C1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D893-4E80-422E-8BE0-94BA03B0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BB4-DD66-4A3C-B523-D119335B4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D0D2-90FF-41E8-8807-C303A74A8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5FF8-0C0D-4A48-B0DF-4D3DD686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1875-1A32-4431-80B5-A28A9F74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282B-03D5-47BD-B2D5-159182D46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C29D-1DD2-4F3C-9534-282C464F6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0309-679B-417B-ADB8-D3A205A2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11AE0-76B2-470B-A452-9BC458A38330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4.png"/><Relationship Id="rId11" Type="http://schemas.openxmlformats.org/officeDocument/2006/relationships/slide" Target="slide8.xml"/><Relationship Id="rId12" Type="http://schemas.openxmlformats.org/officeDocument/2006/relationships/image" Target="../media/image5.jpeg"/><Relationship Id="rId13" Type="http://schemas.openxmlformats.org/officeDocument/2006/relationships/slide" Target="slide7.xml"/><Relationship Id="rId14" Type="http://schemas.openxmlformats.org/officeDocument/2006/relationships/image" Target="../media/image6.jpeg"/><Relationship Id="rId15" Type="http://schemas.openxmlformats.org/officeDocument/2006/relationships/slide" Target="slide4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hyperlink" Target="http://www.xtec.es/~ealtimir/sjordica.htm" TargetMode="External"/><Relationship Id="rId9" Type="http://schemas.openxmlformats.org/officeDocument/2006/relationships/hyperlink" Target="http://www.terra.es/personal/angerod/jordi.htm" TargetMode="External"/><Relationship Id="rId10" Type="http://schemas.openxmlformats.org/officeDocument/2006/relationships/hyperlink" Target="http://www.seccat.com/xarsec_projectes/stjordi/stjordi99/llegenda/" TargetMode="External"/><Relationship Id="rId11" Type="http://schemas.openxmlformats.org/officeDocument/2006/relationships/hyperlink" Target="http://ca.wikipedia.org/wiki/Sant_Jordi" TargetMode="External"/><Relationship Id="rId12" Type="http://schemas.openxmlformats.org/officeDocument/2006/relationships/hyperlink" Target="http://www.iecat.net/pperiodiques/ShowArticleFile.asp?FileID=%7B6A046FBA-A795-4561-BCC8-E6DF029D2018%7D&amp;FileType=application/pdf" TargetMode="External"/><Relationship Id="rId13" Type="http://schemas.openxmlformats.org/officeDocument/2006/relationships/hyperlink" Target="http://www.relatsencatala.com/rec/Controller?rp_action=view_relat&amp;rp_relat_id=117053" TargetMode="External"/><Relationship Id="rId14" Type="http://schemas.openxmlformats.org/officeDocument/2006/relationships/hyperlink" Target="http://leodegundia.blogspot.com/2005/08/caballeros-medievales_17.html" TargetMode="External"/><Relationship Id="rId15" Type="http://schemas.openxmlformats.org/officeDocument/2006/relationships/hyperlink" Target="http://www.xtec.es/centres/e3004232/llegenda.pdf" TargetMode="External"/><Relationship Id="rId16" Type="http://schemas.openxmlformats.org/officeDocument/2006/relationships/hyperlink" Target="http://www.relatsencatala.com/rec/Controller?rp_action=view_relat&amp;rp_relat_id=82533" TargetMode="External"/><Relationship Id="rId17" Type="http://schemas.openxmlformats.org/officeDocument/2006/relationships/hyperlink" Target="http://www.sant-celoni.cat/cultura/soler_de_vilardell.htm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xtec.cat/recursos/cultura/contes/arreu/quatre.htm" TargetMode="External"/><Relationship Id="rId9" Type="http://schemas.openxmlformats.org/officeDocument/2006/relationships/hyperlink" Target="http://www.lamalla.net/petita_malla/hem_escollit/article?ids=130423" TargetMode="External"/><Relationship Id="rId10" Type="http://schemas.openxmlformats.org/officeDocument/2006/relationships/hyperlink" Target="http://www.xtec.es/trobada/sjordi98/llegenda/teresa.htm" TargetMode="External"/><Relationship Id="rId11" Type="http://schemas.openxmlformats.org/officeDocument/2006/relationships/hyperlink" Target="http://www.ladymorrygan.com/cl_Vibria.htm" TargetMode="External"/><Relationship Id="rId12" Type="http://schemas.openxmlformats.org/officeDocument/2006/relationships/hyperlink" Target="http://www.festes.org/directori.php?id=195" TargetMode="External"/><Relationship Id="rId13" Type="http://schemas.openxmlformats.org/officeDocument/2006/relationships/hyperlink" Target="http://www.festes.org/entremesos/bestiari/" TargetMode="External"/><Relationship Id="rId14" Type="http://schemas.openxmlformats.org/officeDocument/2006/relationships/hyperlink" Target="http://www.bibgirona.net/salt/dracs/" TargetMode="External"/><Relationship Id="rId15" Type="http://schemas.openxmlformats.org/officeDocument/2006/relationships/hyperlink" Target="http://femxarxa.rubidigital.cat/gallery/view/id/240" TargetMode="External"/><Relationship Id="rId16" Type="http://schemas.openxmlformats.org/officeDocument/2006/relationships/hyperlink" Target="http://www.festes.org/directori.php?id=195" TargetMode="External"/><Relationship Id="rId17" Type="http://schemas.openxmlformats.org/officeDocument/2006/relationships/hyperlink" Target="http://portalx.iespana.es/dragonesx/xindex.html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hyperlink" Target="http://www.xtec.es/~averges3/primer/plantes.htm" TargetMode="External"/><Relationship Id="rId9" Type="http://schemas.openxmlformats.org/officeDocument/2006/relationships/hyperlink" Target="http://www.xtec.es/col-anunciata-cerdanyola/plantes/index%20flors%20blanques2.htm" TargetMode="External"/><Relationship Id="rId10" Type="http://schemas.openxmlformats.org/officeDocument/2006/relationships/hyperlink" Target="http://www.xtec.es/~enieto2/07mar/flors/flors.htm" TargetMode="Externa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hyperlink" Target="http://www.xtec.es/aulanet/khaima/" TargetMode="External"/><Relationship Id="rId9" Type="http://schemas.openxmlformats.org/officeDocument/2006/relationships/hyperlink" Target="http://www.educared.org.ar/imaginaria/biblioteca/pdf/ArchancoElingredientesecreto.pdf" TargetMode="External"/><Relationship Id="rId10" Type="http://schemas.openxmlformats.org/officeDocument/2006/relationships/hyperlink" Target="http://www.educared.org.ar/imaginaria/biblioteca/pdf/DavilaCuentocondragonesyprincesas.pdf" TargetMode="External"/><Relationship Id="rId11" Type="http://schemas.openxmlformats.org/officeDocument/2006/relationships/hyperlink" Target="http://www.educared.org.ar/imaginaria/biblioteca/pdf/ArchancoFelipalaprincesa.pdf" TargetMode="External"/><Relationship Id="rId12" Type="http://schemas.openxmlformats.org/officeDocument/2006/relationships/hyperlink" Target="http://www.xtec.es/~acarre/proposta/amor/bany.htm" TargetMode="Externa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hyperlink" Target="http://www.cercat.com/cinema/santllegenda.htm" TargetMode="External"/><Relationship Id="rId9" Type="http://schemas.openxmlformats.org/officeDocument/2006/relationships/hyperlink" Target="http://www.xtec.es/~mdomingo/stjordi/" TargetMode="External"/><Relationship Id="rId10" Type="http://schemas.openxmlformats.org/officeDocument/2006/relationships/hyperlink" Target="http://www.terra.es/personal/angerod/jordi.htm" TargetMode="External"/><Relationship Id="rId11" Type="http://schemas.openxmlformats.org/officeDocument/2006/relationships/hyperlink" Target="http://www.terra.es/personal/angerod/jorge2.htm" TargetMode="External"/><Relationship Id="rId12" Type="http://schemas.openxmlformats.org/officeDocument/2006/relationships/hyperlink" Target="http://www.totcontes.com/view.php?p=C:santjordi" TargetMode="External"/><Relationship Id="rId13" Type="http://schemas.openxmlformats.org/officeDocument/2006/relationships/hyperlink" Target="http://www.eurotales.eril.net/jordiec.htm" TargetMode="External"/><Relationship Id="rId14" Type="http://schemas.openxmlformats.org/officeDocument/2006/relationships/hyperlink" Target="http://www.setmanamedieval.org/llegenda.php" TargetMode="External"/><Relationship Id="rId15" Type="http://schemas.openxmlformats.org/officeDocument/2006/relationships/hyperlink" Target="http://www.edualter.org/material/stjordi.htm" TargetMode="External"/><Relationship Id="rId16" Type="http://schemas.openxmlformats.org/officeDocument/2006/relationships/hyperlink" Target="http://www.pangea.org/%7Ecarlesc/contes/catperua.htm" TargetMode="External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3143160" y="1928880"/>
            <a:ext cx="54295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mb aquesta webquest ens volem acostar a la llegenda de Sant Jor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Ús proposem analitzar-ne els personatges més importants i buscar un paral·lelisme amb personatges similars d’altres cultures..., perquè de llegendes, dracs, princeses, valents cavallers i flors màgiques en podem trobar arreu del m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Seguiu els enllaços que us proposem, feu les activitats i descobrireu un Sant Jordi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9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3071880" y="214308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rè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Gràcies a l’equip LIC de l’Alt i Baix Empordà ja que la seva Webquest ens ha servit d’orientació i desprès d’agafar-la com model, l’hem adaptat a les nostres neces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xtec.es/~msilvest/wqsj/index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CuadroTexto"/>
          <p:cNvSpPr/>
          <p:nvPr/>
        </p:nvSpPr>
        <p:spPr>
          <a:xfrm>
            <a:off x="2714760" y="1857240"/>
            <a:ext cx="61434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as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grupeu-vos per parelles i cada grup serà un d’aquests personatg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in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av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d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carpeta amb el Word, on posareu el títol del vostre grup i on guardareu tot el tre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oseu-li el títol del vostre  grup i guardeu les fr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) Trieu d’entre totes les frases les adequades al vostre personat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a por – Ens recorda l’origen, color de la sang – La bellesa – És bonica però té punxes – És gran – És bo – És difícil de matar... – És un obsequi, un regal, una actitud de cortesia... – És fort i valent – Té poders – És fidel... – Va a favor del dèbil... – És feble – És un monstre – S’ha de prot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neu a l’apartat procés d’aquesta webquest i treballeu a fons el vostre personatge: cerqueu imatges per il·lustrar les seves qualitats, guardeu les imatges dins de cada carpeta, feu tot el que correspongui al vostre personatge i desprès aquest arxiu l’heu d’enviar al vostre correu electrònic per poder-lo imprimir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sprès de treballar cada personatge heu d’anar a l’apartat llegendes i escriure la vostra llegenda intercultural., que també haureu de posar a l’arxiu creat  per  imprimir-lo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mb les imatges que heu buscat, la llegenda de Sant Jordi, les frases que heu escollit i la llegenda intercultural que heu escrit fareu un mural el mateix dia de Sant Jord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7) Cada grup haurà de muntar una presentació amb Power Point sobre la llegenda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0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929040" y="3071880"/>
          <a:ext cx="5524560" cy="3786120"/>
        </p:xfrm>
        <a:graphic>
          <a:graphicData uri="http://schemas.openxmlformats.org/drawingml/2006/table">
            <a:tbl>
              <a:tblPr/>
              <a:tblGrid>
                <a:gridCol w="647640"/>
                <a:gridCol w="1219320"/>
                <a:gridCol w="1219320"/>
                <a:gridCol w="1218960"/>
                <a:gridCol w="1219320"/>
              </a:tblGrid>
              <a:tr h="18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00240" y="2857680"/>
          <a:ext cx="5857920" cy="3714480"/>
        </p:xfrm>
        <a:graphic>
          <a:graphicData uri="http://schemas.openxmlformats.org/drawingml/2006/table">
            <a:tbl>
              <a:tblPr/>
              <a:tblGrid>
                <a:gridCol w="1621080"/>
                <a:gridCol w="1461960"/>
                <a:gridCol w="1546200"/>
                <a:gridCol w="1228680"/>
              </a:tblGrid>
              <a:tr h="182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ava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dr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rinc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lege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Imagen 14" descr="drac amb pancar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2714760"/>
            <a:ext cx="128592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buix rosa, imatge sense enllaços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928960"/>
            <a:ext cx="107604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www.costumari.com/wiki/images/5/5c/Santjordi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86080" y="5214960"/>
            <a:ext cx="928800" cy="130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rinces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43880" y="2714760"/>
            <a:ext cx="107136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caballero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2857680"/>
            <a:ext cx="857160" cy="1714320"/>
          </a:xfrm>
          <a:prstGeom prst="rect">
            <a:avLst/>
          </a:prstGeom>
          <a:ln w="0">
            <a:noFill/>
          </a:ln>
        </p:spPr>
      </p:pic>
      <p:sp>
        <p:nvSpPr>
          <p:cNvPr id="56" name="11 CuadroTexto"/>
          <p:cNvSpPr/>
          <p:nvPr/>
        </p:nvSpPr>
        <p:spPr>
          <a:xfrm>
            <a:off x="3429000" y="1714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Pro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caballero"/>
          <p:cNvPicPr/>
          <p:nvPr/>
        </p:nvPicPr>
        <p:blipFill>
          <a:blip r:embed="rId7"/>
          <a:stretch/>
        </p:blipFill>
        <p:spPr>
          <a:xfrm>
            <a:off x="428760" y="285840"/>
            <a:ext cx="928440" cy="1857240"/>
          </a:xfrm>
          <a:prstGeom prst="rect">
            <a:avLst/>
          </a:prstGeom>
          <a:ln w="0">
            <a:noFill/>
          </a:ln>
        </p:spPr>
      </p:pic>
      <p:sp>
        <p:nvSpPr>
          <p:cNvPr id="60" name="7 CuadroTexto"/>
          <p:cNvSpPr/>
          <p:nvPr/>
        </p:nvSpPr>
        <p:spPr>
          <a:xfrm>
            <a:off x="2643120" y="1571760"/>
            <a:ext cx="6215040" cy="28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Qui era Sat Jord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ant Jordi. Patró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Adaptacions de la llegenda fetes per esc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Sant Jordi a la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Histories de cavall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Sis llegendes inèdites de la historiografia catalana mediev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Relat: La victòria dels venç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El rincón de Leodegundia: Caballeros mediev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Torto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El drac de Bestrac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La llegenda de Soler de Vilard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8 CuadroTexto"/>
          <p:cNvSpPr/>
          <p:nvPr/>
        </p:nvSpPr>
        <p:spPr>
          <a:xfrm>
            <a:off x="2786040" y="4929120"/>
            <a:ext cx="5357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l vostre cavaller. Com es diu el seu cavall?. Quines qualitats té?. Quines gestes ha d’emprendre?. Com és?. Està enamorat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9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65" name="Imagen 14" descr="drac amb pancarta"/>
          <p:cNvPicPr/>
          <p:nvPr/>
        </p:nvPicPr>
        <p:blipFill>
          <a:blip r:embed="rId7"/>
          <a:stretch/>
        </p:blipFill>
        <p:spPr>
          <a:xfrm>
            <a:off x="285840" y="285840"/>
            <a:ext cx="1285920" cy="185724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714760" y="185724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Els quatre dracs. Conte Xin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món dels dra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3 llegende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Llegenda de La Vi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racs catalans famo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Bestiari fes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2714760" y="400068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Busqueu imatges de drac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Dibuixo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Galeria de 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és imatges de besti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nl-NL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Dracs de tot el m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.. a partir de les imatges creeu el vostre propi drac i feu-ne una descripció. Escriviu com és el vostre drac. D’on és?. On viu?.  Què fa?. Quins són els seus trets principal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ibuix rosa, imatge sense enllaços"/>
          <p:cNvPicPr/>
          <p:nvPr/>
        </p:nvPicPr>
        <p:blipFill>
          <a:blip r:embed="rId7"/>
          <a:stretch/>
        </p:blipFill>
        <p:spPr>
          <a:xfrm>
            <a:off x="285840" y="357120"/>
            <a:ext cx="1076400" cy="1495440"/>
          </a:xfrm>
          <a:prstGeom prst="rect">
            <a:avLst/>
          </a:prstGeom>
          <a:ln w="0">
            <a:noFill/>
          </a:ln>
        </p:spPr>
      </p:pic>
      <p:sp>
        <p:nvSpPr>
          <p:cNvPr id="72" name="6 CuadroTexto"/>
          <p:cNvSpPr/>
          <p:nvPr/>
        </p:nvSpPr>
        <p:spPr>
          <a:xfrm>
            <a:off x="3214800" y="2428920"/>
            <a:ext cx="50720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es plantes màgiques de les ronda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Flors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El llenguatge de les f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3214800" y="3929040"/>
            <a:ext cx="50720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. Ara que sabeu moltes coses sobre les flors, escolliu una flor per la vostra llegenda i descriviu-la. Quina flor heu triat?. Com és?. Quines qualitats té?. És màgica?. És diferent de les altres?. Per què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. Escriu un missatge secret utilitzant el llenguatge de les fl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8 Flecha derecha">
            <a:hlinkClick r:id="rId11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princesa"/>
          <p:cNvPicPr/>
          <p:nvPr/>
        </p:nvPicPr>
        <p:blipFill>
          <a:blip r:embed="rId7"/>
          <a:stretch/>
        </p:blipFill>
        <p:spPr>
          <a:xfrm>
            <a:off x="285840" y="285840"/>
            <a:ext cx="1071360" cy="1857240"/>
          </a:xfrm>
          <a:prstGeom prst="rect">
            <a:avLst/>
          </a:prstGeom>
          <a:ln w="0">
            <a:noFill/>
          </a:ln>
        </p:spPr>
      </p:pic>
      <p:sp>
        <p:nvSpPr>
          <p:cNvPr id="78" name="6 CuadroTexto"/>
          <p:cNvSpPr/>
          <p:nvPr/>
        </p:nvSpPr>
        <p:spPr>
          <a:xfrm>
            <a:off x="2714760" y="2500200"/>
            <a:ext cx="60004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a Princesa Sherezade. "La Khaima de les balances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ingrediente secr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uento con dragones y princes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Felipa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irant lo Blanc. "El bany de la princes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2714760" y="4500720"/>
            <a:ext cx="60004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gur que la vostra princesa és també molt bella, però quines són totes les seves qualitats?. On viu?. Com é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 la vostr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Flecha derecha">
            <a:hlinkClick r:id="rId13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http://www.costumari.com/wiki/images/5/5c/Santjordi.jpg"/>
          <p:cNvPicPr/>
          <p:nvPr/>
        </p:nvPicPr>
        <p:blipFill>
          <a:blip r:embed="rId7"/>
          <a:stretch/>
        </p:blipFill>
        <p:spPr>
          <a:xfrm>
            <a:off x="285840" y="500040"/>
            <a:ext cx="1114200" cy="156204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2928960" y="1857240"/>
            <a:ext cx="57862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legeda catalana del drac i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xtec.es/%7Emdomingo/stjor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terra.es/personal/angerod/jord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terra.es/personal/angerod/jorge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totcontes.com/view.php?p=C:santjor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eurotales.eril.net/jordiec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setmanamedieval.org/llegend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intercultur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de Serid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La llegenda de Huascaran.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uadroTexto"/>
          <p:cNvSpPr/>
          <p:nvPr/>
        </p:nvSpPr>
        <p:spPr>
          <a:xfrm>
            <a:off x="2928960" y="4929120"/>
            <a:ext cx="5786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ja esteu a punt d’escriure una autèntica llegenda intercultural, poseu també imat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 Flecha derecha">
            <a:hlinkClick r:id="rId17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2786040" y="1785960"/>
            <a:ext cx="603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valua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er la valoració del vostre treball s'observaran els següents aspec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articipació dels membres del grup a la recerca d’informació, elaboració del treball i presenta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Ús de la informació prec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orrecció ortogràfica i sintàc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inalització de les tas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isseny del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Utilització de les eines informàt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del mural amb retalls de les vostres recer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scripció dels personat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Imatges de dracs, princeses, cavallers i flors màg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Llegenda inter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amb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22:50Z</dcterms:created>
  <dc:creator>Pilar</dc:creator>
  <dc:description/>
  <dc:language>en-US</dc:language>
  <cp:lastModifiedBy>Pilar</cp:lastModifiedBy>
  <dcterms:modified xsi:type="dcterms:W3CDTF">2008-04-06T08:04:57Z</dcterms:modified>
  <cp:revision>58</cp:revision>
  <dc:subject/>
  <dc:title>Diapositiva 1</dc:title>
</cp:coreProperties>
</file>